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21ED-FD07-4683-B25D-CCE73E84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5A7B-AAF9-4A8F-82EB-029519B6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45A0-AEBC-41F2-A4C5-1DD82FE9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19B0-1835-47F5-81DB-30348B94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55AE-4A82-4636-92E0-06E2449B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4868-68C9-491B-BB84-61A776B6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86B2-5B44-4117-A6D4-CA878A87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422A-C21F-4F8D-B9B8-8B4670C2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B9C7-73A1-4BA3-98E9-A5B8F66A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46B8-52CC-4224-B9CF-AB5A04DC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4584-EA0F-4165-AD3B-0B5E5A3C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7F8D-A4DB-4A65-9DE8-F2690B6D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32C0-CCC3-4451-9A31-C617FC16F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37920" y="4876920"/>
            <a:ext cx="3886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Kody Stew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hypotheses was wrong because most people chose Twi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Candy &amp; Gum."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rchie McPhee &amp; Co.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ys, Gifts &amp; Novel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eb. 15 Feb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tp://www.mcphee.com/shop/catego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/Candy-/&gt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Trick Candy."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ag Gifts, Funny T-Shirts plu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anks and Gags at PrankPlace Gag Fu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eb. 15 Feb. 201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tp://www.prankplace.com/subcategory.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x?c=32&gt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Knitty.com."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nitty: Winter 20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eb. 15 Feb. 201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tp://www.knitty.com/ISSUEwinter04/PATTcand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&gt;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to know what kind of candy  people like the m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gender have on what kind of candy do they like the mos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dy &amp; g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k ca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most people will choose chocol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797440" y="3860640"/>
            <a:ext cx="33465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Gather all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sk 20 people to choose one of the pieces of candy that is their favo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Record th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- g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ant- who likes what ca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ed- ca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colate-3    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eses-5       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ttles-5        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&amp;M-1              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ix-6              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19720" y="3782880"/>
            <a:ext cx="4724280" cy="307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3276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4:35:37Z</dcterms:created>
  <dc:creator>USD376</dc:creator>
  <dc:description/>
  <dc:language>en-US</dc:language>
  <cp:lastModifiedBy>USD376</cp:lastModifiedBy>
  <dcterms:modified xsi:type="dcterms:W3CDTF">2011-02-16T14:32:02Z</dcterms:modified>
  <cp:revision>7</cp:revision>
  <dc:subject/>
  <dc:title>Candy</dc:title>
</cp:coreProperties>
</file>